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9A9-7CF1-4614-8CAF-E45A2C4F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B44-FB94-4854-9208-02ED03DF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246-0258-4C28-9879-EBF1352A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9EA-69CB-438F-B54B-51691ACB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943-CC7A-4FD9-B8C2-99D384BB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FD6-5FDD-43DF-A0FD-B2F73498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22D-0691-4BC0-AF9E-C45ED65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C07-08B3-4890-9FAE-77E6F1E4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CC9-625C-4AD5-8BF4-9A148E10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5E3-CCEB-4A54-BF8E-FDEA0CD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F69-4DB7-454D-A069-90725D4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0CE-17EC-44B3-81B2-D86F19D4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9CAC-22BC-483E-B93B-E6CA4DB56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claymath.org/helaman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38088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imes New Roman"/>
              </a:rPr>
              <a:t>Dlaczego nikt nie lubi matematykó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6520" y="5565600"/>
            <a:ext cx="1913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99ff"/>
                </a:solidFill>
                <a:latin typeface="Times New Roman"/>
              </a:rPr>
              <a:t>Leo G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7600" y="6076800"/>
            <a:ext cx="214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99ff"/>
                </a:solidFill>
                <a:latin typeface="Times New Roman"/>
              </a:rPr>
              <a:t>(Los Ulam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0400" y="1957320"/>
            <a:ext cx="27766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ajzer_70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04280" y="380880"/>
            <a:ext cx="47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99ff"/>
                </a:solidFill>
                <a:latin typeface="Times New Roman"/>
              </a:rPr>
              <a:t>Problem Zygmunta Hajz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h-1975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228600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67640" y="609588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Monty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16880" y="548640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Zygmunt Haj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85-Doors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4573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omelikeithot" descr="Marilyn Monroe in MGM's Some Like It Hot"/>
          <p:cNvPicPr/>
          <p:nvPr/>
        </p:nvPicPr>
        <p:blipFill>
          <a:blip r:embed="rId1"/>
          <a:stretch/>
        </p:blipFill>
        <p:spPr>
          <a:xfrm>
            <a:off x="685800" y="1905120"/>
            <a:ext cx="2247840" cy="3200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03520" y="716040"/>
            <a:ext cx="29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99ff"/>
                </a:solidFill>
                <a:latin typeface="Times New Roman"/>
              </a:rPr>
              <a:t>Zapytaj Merily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8280" y="4800600"/>
            <a:ext cx="25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Marylin vos Sa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IQ 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rdos_3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2160720" cy="285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0" y="495288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Wujek P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skmarilyn_question" descr="Send a question to Marilyn vos Savant"/>
          <p:cNvPicPr/>
          <p:nvPr/>
        </p:nvPicPr>
        <p:blipFill>
          <a:blip r:embed="rId3"/>
          <a:stretch/>
        </p:blipFill>
        <p:spPr>
          <a:xfrm>
            <a:off x="3581280" y="2387520"/>
            <a:ext cx="228600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82200" y="685800"/>
            <a:ext cx="61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Dlaczego wszyscy kochają fizykó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414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95880" y="3540240"/>
            <a:ext cx="2791080" cy="232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3280" y="1828800"/>
            <a:ext cx="2163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iemann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319480" cy="262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2800" y="480060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Bernhard Ri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6280" y="1981080"/>
            <a:ext cx="373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H</a:t>
            </a:r>
            <a:r>
              <a:rPr b="0" lang="pl-PL" sz="2400" spc="-1" strike="noStrike" baseline="-25000">
                <a:solidFill>
                  <a:srgbClr val="9999ff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 = 1 + 1/2 + 1/3 + ... + 1/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8320" y="716040"/>
            <a:ext cx="45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Nierówność za 1.000.000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11880" y="3174840"/>
            <a:ext cx="5196600" cy="510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Suma dzielników n &lt; H</a:t>
            </a:r>
            <a:r>
              <a:rPr b="0" lang="pl-PL" sz="2400" spc="-1" strike="noStrike" baseline="-25000">
                <a:solidFill>
                  <a:srgbClr val="9999ff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 + exp(H</a:t>
            </a:r>
            <a:r>
              <a:rPr b="0" lang="pl-PL" sz="2400" spc="-1" strike="noStrike" baseline="-25000">
                <a:solidFill>
                  <a:srgbClr val="9999ff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)ln(H</a:t>
            </a:r>
            <a:r>
              <a:rPr b="0" lang="pl-PL" sz="2400" spc="-1" strike="noStrike" baseline="-25000">
                <a:solidFill>
                  <a:srgbClr val="9999ff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con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6480" y="4521240"/>
            <a:ext cx="25524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08240" y="266688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379800" y="4724280"/>
            <a:ext cx="2667240" cy="1371600"/>
          </a:xfrm>
          <a:prstGeom prst="wedgeEllipseCallout">
            <a:avLst>
              <a:gd name="adj1" fmla="val -67203"/>
              <a:gd name="adj2" fmla="val 11736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9280" y="5029200"/>
            <a:ext cx="204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 podarujesz 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rowy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1760" y="5165640"/>
            <a:ext cx="283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śli powiesz prawdę,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m ci krowę lub jagu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4799880"/>
            <a:ext cx="3047760" cy="1600200"/>
          </a:xfrm>
          <a:prstGeom prst="wedgeEllipseCallout">
            <a:avLst>
              <a:gd name="adj1" fmla="val -66564"/>
              <a:gd name="adj2" fmla="val 11299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177660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400800" y="1447920"/>
            <a:ext cx="158256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5480" y="36576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Kurt G</a:t>
            </a:r>
            <a:r>
              <a:rPr b="0" lang="pl-PL" sz="2400" spc="-1" strike="noStrike">
                <a:solidFill>
                  <a:srgbClr val="9999ff"/>
                </a:solidFill>
                <a:latin typeface="Times New Roman"/>
                <a:ea typeface="Times New Roman"/>
              </a:rPr>
              <a:t>ö</a:t>
            </a: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160" y="36576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David Hil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1040" y="487440"/>
            <a:ext cx="65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Musimy wiedzieć, będziemy wiedzie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mullyan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1849320" cy="266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247800" y="5486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Raymond Smully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7040" y="3348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Diabelska łamigłów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hajzer_70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mh-1975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21960" y="1295280"/>
            <a:ext cx="505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Jeśli powiesz zdanie prawdzi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dostaniesz dokładnie 10$. Jeśli powies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zdanie fałszywe, dam ci albo mniej niż 10$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albo więcej niż 10$, ale na pewno nie dokładnie 10$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2600" y="5180040"/>
            <a:ext cx="32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Bez względu na to, czy powies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zdanie prawdziwe, czy fałszyw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dostaniesz więcej niż 10$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514600" y="2818800"/>
            <a:ext cx="3733920" cy="2057400"/>
          </a:xfrm>
          <a:prstGeom prst="wedgeEllipseCallout">
            <a:avLst>
              <a:gd name="adj1" fmla="val -84527"/>
              <a:gd name="adj2" fmla="val 165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26440" y="323208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Którą opcję wybieras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Monty Hall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czy Zygmunta Hajze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38280" y="7160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Wieczność za 1.000.000</a:t>
            </a:r>
            <a:r>
              <a:rPr b="0" lang="en-US" sz="3200" spc="-1" strike="noStrike">
                <a:solidFill>
                  <a:srgbClr val="9999ff"/>
                </a:solidFill>
                <a:latin typeface="Times New Roman"/>
                <a:ea typeface="Times New Roman"/>
              </a:rPr>
              <a:t>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eternity2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5160" y="5562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Christopher Monc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8720" y="1828800"/>
            <a:ext cx="1380960" cy="3505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5000" y="55627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99ff"/>
                </a:solidFill>
                <a:latin typeface="Times New Roman"/>
              </a:rPr>
              <a:t>Oliver Ri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4840" y="240048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4840" y="2400480"/>
            <a:ext cx="137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_1029505_monckton150" descr="Christopher Monckton"/>
          <p:cNvPicPr/>
          <p:nvPr/>
        </p:nvPicPr>
        <p:blipFill>
          <a:blip r:embed="rId3"/>
          <a:stretch/>
        </p:blipFill>
        <p:spPr>
          <a:xfrm>
            <a:off x="7004160" y="3238560"/>
            <a:ext cx="1682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33720" y="563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Koszmarny sen milion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8290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7:37:43Z</dcterms:created>
  <dc:creator>WMIiE</dc:creator>
  <dc:description/>
  <dc:language>en-US</dc:language>
  <cp:lastModifiedBy>Jarek</cp:lastModifiedBy>
  <dcterms:modified xsi:type="dcterms:W3CDTF">2004-12-16T15:08:47Z</dcterms:modified>
  <cp:revision>116</cp:revision>
  <dc:subject/>
  <dc:title>Bez tytułu slajdu</dc:title>
</cp:coreProperties>
</file>